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F755-2D10-4FAF-8485-07E06252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398-EC7F-419A-B357-3FFF2F77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4B3-4A80-42E1-8637-6F368CCB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9A39-E123-4568-80F0-C61DFDB0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30E4-78CB-43D0-B3AC-5F92AA22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A4A5-7B95-4BC1-BA27-15A14B7A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6B21-A9AA-4688-8A4A-05436964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D6BF-14BC-4C54-988D-7188CE0F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D6AA-0F01-4FA5-BC94-7B1C96A6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C8EE-4DF5-4703-8F11-73A8C558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247F-3C95-4050-A8D0-5D944513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7CF-2C41-411E-B665-93EC5DC6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E26A-4915-45F1-A612-8920B097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B5CA-D8A2-4137-B68C-A073F904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503B-67CA-48A2-8D87-44AFAB73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E194-B186-427F-9961-C21A0B9E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BAA6-A31F-4CB8-8038-B1F730FD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FFC-3FC2-4DCD-9D57-03BCB78B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266-BC6B-4DF1-8969-871861AB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72F-6869-45AE-9FD3-5A0B0EDA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E11F-26B5-457C-9194-97913487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478C-9902-43A4-8E3B-E3C2E815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078-B115-411A-9A1A-497D67FF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503-2D18-4476-8580-E331C222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EC0A-B528-4955-87C0-9B284D12EA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15/06/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Gruppo network cultura imprenditoriale e alterna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2224-3348-49EE-8ECE-D28A30FEBE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etto Incontrere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artners regiona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NA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ESERCENTI  Regionale E.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gc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agricoltura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ederazione italiana agricoltori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cooperative 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ega coope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e attivare il serviz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chiesta di attivazione del servizio a Infocamere da parte delle C.C.I.A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focamere abilita come Gestori le Associazioni di categoria interessate in base alle segnalazioni delle C.C.I.A.A. compilando gli appositi modu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’ stato richiesto di prevedere la possibilità che le Camere che attivano il servizio abilitino come enti gestori anche le associazioni regionali di categoria, qualora queste lo richiedano e previo accordo con i loro livelli provincial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’ stato chiesto che almeno in una prima fase le Camere, all’atto di attivare il servizio, chiedano a Infocamere di non ammettere la modalità degli annunci indipendenti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i incontri sul territo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alendario di presentazioni del servizio incontrerete presso le sedi delle C.C.I.A.A., con il supporto tecnico dei funzionari di Infocamere =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e C.C.I.A.A. individuano una data e il luogo, informano previamente Unioncamere E.R. che avvisa le Associazioni di categoria regionali aderenti al protocol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accolta adesioni da parte delle C.C.I.A.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09:51:21Z</dcterms:created>
  <dc:creator>lenzi</dc:creator>
  <dc:description/>
  <dc:language>en-US</dc:language>
  <cp:lastModifiedBy>lenzi</cp:lastModifiedBy>
  <dcterms:modified xsi:type="dcterms:W3CDTF">2009-06-12T10:14:01Z</dcterms:modified>
  <cp:revision>3</cp:revision>
  <dc:subject/>
  <dc:title>Progetto Incontrerete</dc:title>
</cp:coreProperties>
</file>